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761B-CF6A-4904-BA06-47747512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D24-341E-4823-B37D-9DF8CA82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663-D466-4C7C-94F8-C5D766B9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BEB7-B738-4800-BC97-509E2E1F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F16A-D169-43A7-ADE7-93FCD1BE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D433-3F2A-4B8F-8BC6-D8066E52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3B9E-F4BA-4DF5-B004-CF9F5476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C83E-9077-4C4E-8C2A-6342EF15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6842-6517-4B7C-8B17-DF54ACA2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1913-BF6E-47F5-857F-661EDF84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F2E3-0B42-4152-B457-7ECFCB7E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5EF-A3D4-4B68-9370-3ACD5527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34A2-D49F-4510-8527-9D83038E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5DF7-5E90-4D9F-B6CD-7E125042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23DB-9D69-4A81-BEEB-AEE78FB0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80E7-BC96-4C99-BC82-CD7365CE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20E0-8DAC-4101-BBCB-5EC134B3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8D8BB-9BC4-4894-A7EF-A23D122D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742E1-F257-44CF-926E-22DA5E73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DE1EEF-39FD-4207-982E-C5CF8FB6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F79A5-D14A-4EDE-AE4D-8D05177C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49B29-1609-4059-8B22-F24D7C75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C0D5-DE0C-4BE1-ABF9-54072D0E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99856-84AE-4B33-8F74-E5D60606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A55FD-DFD7-46AD-957B-386C7C90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7687F-EB7B-419C-A518-1B3B6492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5D287-11C4-454A-A934-F929DD18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356D1-A07C-45CD-B331-2BA1F13E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A74BC-702F-4D64-9BAA-52723B49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A349A-2AFB-4A7D-98E3-57902146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C8D29-2FD6-4094-AC58-C2A93213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16FD9B-9AEC-4FAA-91A2-A612AF32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4C4C97-FEB0-452E-9D82-02553ABC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0FD-5615-4801-A509-E3E44D55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2AB964-066C-4D92-9996-2C7E619D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65C633-0379-4B74-A65F-58370FBC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54E6F7-0728-4A80-A477-9884C7B4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F66269-4928-4DF1-A086-C3FA2069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DCA0D1-98F8-4CB9-8587-807E3A27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AC3AFA-E096-4D39-8D92-D42B2E67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ACE968-38EC-4B17-986A-97BA38E5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D37143-70CE-43E5-A4BA-C5021918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F1B9DE-D012-4AD3-9BD9-903FEA9B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D8E671-DCBA-4FBE-A592-6B8E95C2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E43-101E-407C-8940-A558BC99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C618D-C9AD-434D-BABB-994E9E65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A41AF-58CE-48EA-9CFE-640D571E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931CD-23BE-49C2-A33C-71956BD0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EC2A7B-298F-45C2-97D5-B059FE27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77F2AC-B04A-4892-8CA4-5D7E0DB5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3E2DFE-BCA4-4FDD-8C49-9D85F7C8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4EDC2-310A-4028-BBBA-8564B4A0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508DE-F0A2-4287-8F69-EBA75084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ABDB1-6658-4BC7-AC96-89481828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8C09C1-2BB3-4C15-923E-3B3E10E2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992-C47C-48E4-8E8E-0BA4F869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EE7634-BF5D-4DB4-9E22-04787432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AAF4F-C66F-4C0E-83CC-22E3093E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DB0E6-D724-4BA2-A07A-4A1CA78A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27DDF-2ECD-45D0-83D6-C6597A97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DF0C2-865C-4A0A-BF69-F7FB5C24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CE5A0-CBD6-4E33-9574-82B9BF4E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4F972-B617-42B2-8DD1-E6C0ED48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57C1E-E8E2-4BFC-BDCF-071ADC17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F539F-F146-491F-9541-01D55AC8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95E51-DE35-4DD1-A6C2-39680CBE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82BA-FC80-4649-95ED-64A8D1E5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11C48-1C5B-4A0E-A9D0-6721FD1F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AB197-440D-4F65-B0A8-510EE6C9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1017B-D703-4849-B90E-37B4BF27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9218CF-91EC-4B0E-A88A-00B4424C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606758-30EA-40A6-8788-F8B1D47F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25A253-8CF0-4454-B704-116422B4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A9ACA9-8234-48BE-8143-ACBC96CF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F9BC1-44B9-4CAC-8E99-F26A7B49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F16802-60AB-40D4-8179-23B6F1AC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60FC54-517E-4B07-9686-12877909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2708-F886-40FA-B00E-BCE02BE1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EF3C32-D919-40E7-A0A7-F28C47E8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A012E6-416B-4141-8C24-FEB34883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C79C64-B7E8-4382-AA70-F69CF6E3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EF221E-B665-499C-8297-7011FC88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2286D9-7CFF-4D67-A2CE-B8025DDE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CA06B-7AA1-4F0D-BE09-3A493F0E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38CD9-6421-4187-9A9F-72F6E7FC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4861D-6565-472C-B17D-503EE107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B90BC-C853-49E9-A057-C4E501A1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49F61-0FDB-4187-8AAF-0B371864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235-53B7-49D1-B138-1155102A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082C2-0197-4DF1-B8B8-F8D305F7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D76A2-A1D3-4723-A995-C194EBA2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62857-46F8-46F2-9603-DCD752D7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D82EA-1A6A-42F1-90C5-BFF9C3C6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153DA-F90A-4510-939F-87DE0471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4AF74-0441-49C8-8C12-EF87D994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C2E82-64FA-4941-9EDB-B98F2E0E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A0F0-E788-4C55-9734-D6939BC293B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9A7B-245A-4506-8C6C-32A7D2D306FA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D637-A311-47E8-B9AE-B58E03E4AC56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FE71-5965-44C5-93B4-5A807272CC1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6A58-D7F4-4566-9811-A638887975C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2169-FD92-4121-8B98-098C31F7198B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FC4E-0B66-459A-965A-0847E9D640B2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F7C5-1FFE-4762-8CBA-A76F58581DA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kriminal.ru/archives/417" TargetMode="External"/><Relationship Id="rId2" Type="http://schemas.openxmlformats.org/officeDocument/2006/relationships/hyperlink" Target="http://www.bibliotekar.ru/polk-22/index.h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1c6e6"/>
                </a:solidFill>
                <a:latin typeface="Calibri"/>
              </a:rPr>
              <a:t>ИЗМЕНЕНИЕ ПОЛИТИЧЕСКОЙ СИСТЕМЫ СССР В 1953-1964ГГ.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41440" y="2997000"/>
            <a:ext cx="80611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Учитель истории и обществозна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МКОУ «Пиндушская СОШ №1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Коханович Софья Андреевна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1962-1964гг. – велась разработка новой Конституции СССР  - «государство диктатуры пролетариата должно превратиться в общенародное, допускалась частная собственность» – такие проекты устраивали далеко не все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 воспоминаний В.Молотов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ую общенародное государство… Не может государство выражать интересы и рабочего класса и колхозного крестьянства, и интеллигенции..Среди интеллигенции немало бывших классовых противников, они не могут за диктатуру пролетариата бороться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64г. – Н.Хрущев был обвинен в волюнтаризме и субъективизме и отстранен от занимаемой должност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Волюнтаризм – политика, не считающаяся с объективными законами, реальными условиями и возможностя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37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исок использованных источников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)активные ссылки на страницы материалов в интерн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Похороны Сталина: кровавая давка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allkriminal.ru/archives/4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Никита Сергеевич Хрущев: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http://www.bibliotekar.ru/polk-22/index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)активные ссылки на использованные изобра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Похороны Сталина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wiz&amp;text=%D0%BF%D0%BE%D1%85%D0%BE%D1%80%D0%BE%D0%BD%D1%8B%20%D1%81%D1%82%D0%B0%D0%BB%D0%B8%D0%BD%D0%B0&amp;noreask=1&amp;img_url=http%3A%2F%2Fimg11.nnm.ru%2F4%2Fc%2F6%2F1%2Fb%2F8c8f67e14c8e292bfbab7c83c45.jpg&amp;pos=1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Н.С.Хрущ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psearch&amp;text=%D1%85%D1%80%D1%83%D1%89%D0%B5%D0%B2&amp;noreask=1&amp;img_url=http%3A%2F%2Frusmir.in.ua%2Fuploads%2Fposts%2F2009-11%2F1258626138_xrushhev.jpg&amp;pos=0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5 марта 1953г. – умер И.Сталин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размышляйте над высказыванием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У.Черчилль «Сталин принял Россию лапотной, а оставил с атомным оружием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хороны И.В.Сталина. На улицах Москвы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5" name="Содержимое 3" descr="0_4209f_523cedc5_XL.jpeg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8360" y="1413000"/>
            <a:ext cx="822960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марта 1953г. – по март 1958г  - развернулась борьба за власть, в результате которой победу одержал Н.Хрущев (1-й секретарь ЦК КПС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Рисунок 3" descr="1258626138_xrushhev.jpg"/>
          <p:cNvPicPr/>
          <p:nvPr/>
        </p:nvPicPr>
        <p:blipFill>
          <a:blip r:embed="rId1"/>
          <a:stretch/>
        </p:blipFill>
        <p:spPr>
          <a:xfrm>
            <a:off x="2195640" y="2708280"/>
            <a:ext cx="5276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Разоблачение «культа личности» и реабилитаци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79280" y="1699920"/>
            <a:ext cx="8640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3г. – первая массовая амнист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еабилитированы жертвы «ленинградского дела», «дела врачей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евраль 1956г. – ХХ съезд КПСС – критика беззаконий сталинского режим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Н.Хрущев: «Эти вопросы созрели, их нужно было поднять. Если бы я их не поднял, их подняли бы другие. И это было бы гибелью для руководства, которое не прислушалось к велению времен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360" y="155700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ждались «переломы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а «культа личности» (осуществлялась не публично, а лишь в узких партийных кругах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литическую ответственность за все жертвы и лишения власть на себя не взял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360" y="169992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6-1961г. – реабилитировано около 700 тыс. человек, часть из них – посмертн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смотрено уголовное законодательство, прошла реорганизация лагерей, улучшены условия содержания заключенны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празднено понятие «враг народа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9640" y="1773000"/>
            <a:ext cx="822960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з воспоминаний Н.Хруще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…Самое главное – все мы, весь народ, и те, кто был там, за проволокой, и те, кто трясся от страха здесь, по другую сторону проволоки, все мы глотнули другого воздуха. Это главное. Это теперь так просто у народа не отнять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532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Реорганизация государственных органов и партийных организаций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2205000"/>
            <a:ext cx="81532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сширены права союзных республи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7г. – реформированы отраслевые министерства – преобразованы в Советы Народного Хозяй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нят новый Устав КПСС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34:37Z</dcterms:created>
  <dc:creator>User</dc:creator>
  <dc:description/>
  <dc:language>en-US</dc:language>
  <cp:lastModifiedBy>User</cp:lastModifiedBy>
  <dcterms:modified xsi:type="dcterms:W3CDTF">2013-03-12T10:37:40Z</dcterms:modified>
  <cp:revision>6</cp:revision>
  <dc:subject/>
  <dc:title>Изменение политической системы СССР в 1953-1964гг.</dc:title>
</cp:coreProperties>
</file>